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127F-F8D4-4A07-8803-53F07DB08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21A-42BF-4D50-9001-D7AB9988F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29EB-F063-454B-B8D7-2CA82A70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A646-6317-4EE8-8C7E-48B6F874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E3E6-9265-4A1F-8490-F255215D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99E0-7D68-464B-A96A-35023062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88B8-6A62-45D2-B5D3-DFDEB8A6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ECD-0943-4989-98D4-722E711F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4358-DC0F-42FB-9AE9-2623D780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96F7-F5CF-405F-95F8-36BDDCAC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5DBD-38B8-4297-903C-B78EC62C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AAA3-224C-470A-9F13-508BA655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EFFC-5585-44BF-A988-C59F629756A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5358-AC80-4697-9811-95BB82DA0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183F-AC24-498D-BF23-0A21A8C10EC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82A6E7-3845-4AC0-8596-64D22B6BC9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Regler for bruk av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Hovedregel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t skal alltid brukes systemkor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Par som mangler fullstendig utfylt systemkort tildeles prosedyrestraff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Tillatte systemkor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Deltakerne kan fritt benytte NBF sitt standard systemkort , WBF sine systemkort   eller andre fullstendige kort med minst samme opplysninger på forsiden som NBF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Utfylling av systemkortet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være fullstendig utfylt, det skal ha (eller være merket med) rett farge og eventuelle HUK skal være beskrevet på eget brunt vedlegg sammen med et forslag til forsvar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En meldings mulige fordeling skal beskrives ved å angi  grensene for fargelengder, og styrkegrensene skal angis ved Hp-intervall</a:t>
            </a: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ulige unntaksvise avvik på ett kort eller 2Hp eller mer skal alltid markeres på kortet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F53C-0BFA-498F-B57F-42982A8C283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C1968-3F11-48DA-8E57-3C6E1A9BE9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Psykiske meldinger / Referanselitteratu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Enkelte makkerpar bruker psykiske meldinger eller andre avvik fra systemdeklarasjonen så ofte at de reelt er del av makkeravtalen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Slike makkeravtaler skal føres på systemkortet, og de er underlagt reglene dersom de er HUM eller HUK. 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TL bør tilkalles når det har forekommet psykiske meldinger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Dersom systemkortet er basert på en mer omfattende systemdeklarasjon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en bok eller lignende,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bør referanse til denne skrives på kortet, slik at spørsmål om feil melding/feil forklaring lettere kan utredes.</a:t>
            </a:r>
            <a:br>
              <a:rPr sz="1800"/>
            </a:br>
            <a:r>
              <a:rPr b="1" lang="nb-NO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A721-E3E5-496E-9E4F-CFFF93B1F0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3F853B-A7C1-42E2-A97A-F9A48D5B04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orsiden av systemkortet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990000"/>
                </a:solidFill>
                <a:latin typeface="Times New Roman"/>
              </a:rPr>
              <a:t>Alle plikter å  kjenne opplysningene på forsiden av motpartens systemkort. Det skal gi informasjon om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unnsystem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Grandåpningens styrkeintervall, mulige fordelinger samt svarene på 2 trinnet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Hvor langt 2 over 1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Åpning i minor og senere melding av minor som kan gjøres på trekortsfarg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Betydningen av åpning 2 rut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Doblingers betyd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0066"/>
                </a:solidFill>
                <a:latin typeface="Times New Roman"/>
              </a:rPr>
              <a:t>Spillkonvensjoner og signaler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0BD1-73A9-40CE-A38A-DBB18554B5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54F64-ECF3-4897-B3AA-7CA80D9D0B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Mer om systemkort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Forhåndsutfylte 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BF vil forhåndsutfylle et systemkort for et svært enkelt naturlig system.. Dette systemet skal brukes av spillere som ikke har fullstendig utfylt kort, inntil et eget kort er utfyl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Bruk av systemkort under spille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pillerne har anledning til å studere motpartens systemkort når de er i tur for å melde eller spille, men ikke sitt eg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Times New Roman"/>
              </a:rPr>
              <a:t>Dersom arrangøren med utdelte kort har fastsatt turneringens system(er), så har spillere lov til å studere også sitt eget systemkort. Det samme gjelder spillere som av turneringsleder er pålagt å spille med forhåndsutfylt kort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Kurssystemkor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Nybegynnere med kurssystemkort som er påført navn og utstedelsesdato og er signert av kursets ansvarlige, kan studere sitt eget systemkort under meldingsforløpet i alle turneringer i inntil 1 år fra datoen på kortet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14C-C41B-4306-BF8A-C4ABB52893B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6DBD1A-ED1E-4101-8F5A-0238E3EF5E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Følgen av avvik fra systemkortets beskrivelse av meldinge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vvik fra systemkortets grenser for styrke og fordeling for en melding, kan være en skjult makkeravtale og er derfor et mulig brudd på reglene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"Strekking av grensene" etter en bridgemessig vurdering er ofte egentlig en endring av systemet.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avvik kan medføre justert score, prosedyrestraff og pålegg om å rette systemkort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idgemessige vurderinger bør godtas som grunn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avviket ikke er på mer enn 1 poeng i parets poengsystem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Times New Roman"/>
              </a:rPr>
              <a:t>Når  avviket ikke er på mer enn  et kort i en fargelengde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Symbol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Minste fargelengde i åpning eller definerte innhopp skal være riktig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like ”avvik” må ikke brukes til å overskride viktige grenser som f.eks ”en konge eller mer mindre enn en gjennomsnittshånd”, ”kort farge – lang farge”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t utilsiktet avvik fra systemkortets beskrivelser, f.eks p.g.a feiltelling eller lignende, skal ikke straff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8D3-1071-4DEE-BEF2-4390E7A92FD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8ADC6-E11F-4BFA-B8E7-BAA531ABA5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imes New Roman"/>
              </a:rPr>
              <a:t>Eksempler på reaksjon fra T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forekommet et avvik fra poenggrenser, avviket bringer ikke systemet ut av den aktuelle systemkategorien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Systemkortet skal rettes. Spillet kan bli justert dersom motparten er skadelidende. Prosedyrestraff vurder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er registrert et avvik som betyr at systemet etter avviket skal plasseres i en annen kategori: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Makkerparet må enten rette systemkategorien eller endre bruken av den aktuelle meldingen. Spillet kan bli justert dersom motparten er skadelidende. Prosedyrestraff tildeles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En melding som er deklarert som 11-19 , blir avgitt på en hånd med 9 Hp. Det blir forklart at meldingen unntaksvis kan vise ned till 8 Hp og opp til 21 Hp avhengig av fordeling og kvalitet på de andre korten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600" spc="-1" strike="noStrike">
                <a:solidFill>
                  <a:srgbClr val="000066"/>
                </a:solidFill>
                <a:latin typeface="Times New Roman"/>
              </a:rPr>
              <a:t>TL pålegger at poeng rettet til 11(8) - 19(21), tildeler prosedyrestraff for ufullstendig systemkort og justerer spillet hvis motparten er skadelidende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bruk av systemkort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EE50-F9EB-4CC4-A387-6088D067EE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43F6E8-A3E3-40F6-803F-34A63DABA1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0:17:38Z</dcterms:created>
  <dc:creator>Per Nordland</dc:creator>
  <dc:description/>
  <dc:language>en-US</dc:language>
  <cp:lastModifiedBy>Per Nordland</cp:lastModifiedBy>
  <dcterms:modified xsi:type="dcterms:W3CDTF">2002-03-30T18:07:18Z</dcterms:modified>
  <cp:revision>2</cp:revision>
  <dc:subject/>
  <dc:title>Regler for bruk av systemkort</dc:title>
</cp:coreProperties>
</file>